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push.wav" ContentType="audio/x-wav"/>
  <Override PartName="/ppt/media/wind.wav" ContentType="audio/x-wav"/>
  <Override PartName="/ppt/media/image2.gif" ContentType="image/gif"/>
  <Override PartName="/ppt/media/chimes.wav" ContentType="audio/x-wav"/>
  <Override PartName="/ppt/media/image4.gif" ContentType="image/gif"/>
  <Override PartName="/ppt/media/image3.gif" ContentType="image/gif"/>
  <Override PartName="/ppt/media/hammer.wav" ContentType="audio/x-wav"/>
  <Override PartName="/ppt/media/image5.gif" ContentType="image/gif"/>
  <Override PartName="/ppt/media/image6.gif" ContentType="image/gif"/>
  <Override PartName="/ppt/media/applause.wav" ContentType="audio/x-wav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286E9-0FBB-4FEB-87B4-624784A24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52726-F234-4F8D-9BB5-7ADE27725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69E04-76D7-46EB-BB5D-4EBEE61A6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AA53E-F76E-4670-9B88-D42A41884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3977B-B0BE-4118-BBF1-E19BC3C01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E65C2-4147-4C66-A463-E132805C0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7FC14-E3CB-46C2-9730-FECA26C31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F228E-3C0D-40FA-90CF-E00E467A7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73CF0-9490-4DE3-98EB-8BDE6CF0F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AA5CC-3D12-4657-BCA9-71FA3CEF7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89588-7AB1-4785-B2E4-3A14D4D61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503C3-0B5C-4962-9513-94C2343C3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F487D-0766-4C2B-9E0A-AC54C9494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1B273-D5DC-40A2-8497-C70EDB89A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A67AB-128A-44B6-8DCF-2A2B8CDB1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B911E-6572-4ED9-AD2D-F495E0A80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0BD3D-53B5-4E9F-A5DF-5AD302170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6233C-4C9B-4D5F-BAAF-0158BD450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62E35-2684-4AEB-BF63-1DED21534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6CCA7-A497-4CB7-910F-CD166DE67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E80EB-B744-42EF-B04B-04FE62502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E8057-7574-421D-863A-7A2822BD2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8DA67-77F5-4CB9-BA54-CAD9D4E9C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19CF1-761E-4042-B09C-E1E4107A0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8457B-B19F-4F4A-936E-74E2FE3F490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80601-3C34-4795-92B0-6231F4F3D7A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wind.wav" TargetMode="External"/><Relationship Id="rId2" Type="http://schemas.microsoft.com/office/2007/relationships/media" Target="file:///tmp/home/.config/libreoffice/4/user/gallery/wind.wav" TargetMode="External"/><Relationship Id="rId3" Type="http://schemas.openxmlformats.org/officeDocument/2006/relationships/image" Target="../media/image1.png"/><Relationship Id="rId4" Type="http://schemas.openxmlformats.org/officeDocument/2006/relationships/audio" Target="../media/push.wav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/Vesna.wav" TargetMode="External"/><Relationship Id="rId2" Type="http://schemas.openxmlformats.org/officeDocument/2006/relationships/audio" Target="file:///tmp/home/.config/libreoffice/4/user/gallery/~PP2309.WAV" TargetMode="External"/><Relationship Id="rId3" Type="http://schemas.microsoft.com/office/2007/relationships/media" Target="file:///tmp/home/.config/libreoffice/4/user/gallery/~PP2309.WAV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~PP3430.WAV" TargetMode="External"/><Relationship Id="rId2" Type="http://schemas.microsoft.com/office/2007/relationships/media" Target="file:///tmp/home/.config/libreoffice/4/user/gallery/~PP3430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K%20elize.wav" TargetMode="External"/><Relationship Id="rId2" Type="http://schemas.openxmlformats.org/officeDocument/2006/relationships/image" Target="../media/image4.gif"/><Relationship Id="rId3" Type="http://schemas.openxmlformats.org/officeDocument/2006/relationships/audio" Target="file:///tmp/home/.config/libreoffice/4/user/gallery/~PP2929.WAV" TargetMode="External"/><Relationship Id="rId4" Type="http://schemas.microsoft.com/office/2007/relationships/media" Target="file:///tmp/home/.config/libreoffice/4/user/gallery/~PP2929.WAV" TargetMode="External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audio" Target="file:///tmp/home/.config/libreoffice/4/user/gallery/~PP2958.WAV" TargetMode="External"/><Relationship Id="rId3" Type="http://schemas.microsoft.com/office/2007/relationships/media" Target="file:///tmp/home/.config/libreoffice/4/user/gallery/~PP2958.WAV" TargetMode="External"/><Relationship Id="rId4" Type="http://schemas.openxmlformats.org/officeDocument/2006/relationships/image" Target="../media/image1.png"/><Relationship Id="rId5" Type="http://schemas.openxmlformats.org/officeDocument/2006/relationships/audio" Target="../media/hammer.wav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~PP273.WAV" TargetMode="External"/><Relationship Id="rId2" Type="http://schemas.microsoft.com/office/2007/relationships/media" Target="file:///tmp/home/.config/libreoffice/4/user/gallery/~PP273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file:///Utro.wav" TargetMode="External"/><Relationship Id="rId2" Type="http://schemas.openxmlformats.org/officeDocument/2006/relationships/hyperlink" Target="file:///F:/Audio/138.wav" TargetMode="External"/><Relationship Id="rId3" Type="http://schemas.openxmlformats.org/officeDocument/2006/relationships/image" Target="../media/image6.gif"/><Relationship Id="rId4" Type="http://schemas.openxmlformats.org/officeDocument/2006/relationships/audio" Target="file:///tmp/home/.config/libreoffice/4/user/gallery/~PP3998.WAV" TargetMode="External"/><Relationship Id="rId5" Type="http://schemas.microsoft.com/office/2007/relationships/media" Target="file:///tmp/home/.config/libreoffice/4/user/gallery/~PP3998.WAV" TargetMode="External"/><Relationship Id="rId6" Type="http://schemas.openxmlformats.org/officeDocument/2006/relationships/image" Target="../media/image1.png"/><Relationship Id="rId7" Type="http://schemas.openxmlformats.org/officeDocument/2006/relationships/audio" Target="../media/applause.wav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chimes.wav" TargetMode="External"/><Relationship Id="rId2" Type="http://schemas.microsoft.com/office/2007/relationships/media" Target="file:///tmp/home/.config/libreoffice/4/user/gallery/chimes.wav" TargetMode="External"/><Relationship Id="rId3" Type="http://schemas.openxmlformats.org/officeDocument/2006/relationships/image" Target="../media/image1.png"/><Relationship Id="rId4" Type="http://schemas.openxmlformats.org/officeDocument/2006/relationships/audio" Target="../media/wind.wav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audio" Target="file:///tmp/home/.config/libreoffice/4/user/gallery/hammer.wav" TargetMode="External"/><Relationship Id="rId3" Type="http://schemas.microsoft.com/office/2007/relationships/media" Target="file:///tmp/home/.config/libreoffice/4/user/gallery/hammer.wav" TargetMode="External"/><Relationship Id="rId4" Type="http://schemas.openxmlformats.org/officeDocument/2006/relationships/image" Target="../media/image1.pn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Utro.wav" TargetMode="External"/><Relationship Id="rId2" Type="http://schemas.openxmlformats.org/officeDocument/2006/relationships/audio" Target="file:///usr/lib/libreoffice/share/gallery/sounds/applause.wav" TargetMode="External"/><Relationship Id="rId3" Type="http://schemas.microsoft.com/office/2007/relationships/media" Target="file:///usr/lib/libreoffice/share/gallery/sounds/applause.wav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~PP1520.WAV" TargetMode="External"/><Relationship Id="rId2" Type="http://schemas.microsoft.com/office/2007/relationships/media" Target="file:///tmp/home/.config/libreoffice/4/user/gallery/~PP1520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Lunnaja%20sonata.wav" TargetMode="External"/><Relationship Id="rId2" Type="http://schemas.openxmlformats.org/officeDocument/2006/relationships/audio" Target="file:///tmp/home/.config/libreoffice/4/user/gallery/~PP3883.WAV" TargetMode="External"/><Relationship Id="rId3" Type="http://schemas.microsoft.com/office/2007/relationships/media" Target="file:///tmp/home/.config/libreoffice/4/user/gallery/~PP3883.WAV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~PP749.WAV" TargetMode="External"/><Relationship Id="rId2" Type="http://schemas.microsoft.com/office/2007/relationships/media" Target="file:///tmp/home/.config/libreoffice/4/user/gallery/~PP749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Leto.wav" TargetMode="External"/><Relationship Id="rId2" Type="http://schemas.openxmlformats.org/officeDocument/2006/relationships/audio" Target="file:///tmp/home/.config/libreoffice/4/user/gallery/~PP2250.WAV" TargetMode="External"/><Relationship Id="rId3" Type="http://schemas.microsoft.com/office/2007/relationships/media" Target="file:///tmp/home/.config/libreoffice/4/user/gallery/~PP2250.WAV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audio" Target="file:///tmp/home/.config/libreoffice/4/user/gallery/~PP2780.WAV" TargetMode="External"/><Relationship Id="rId3" Type="http://schemas.microsoft.com/office/2007/relationships/media" Target="file:///tmp/home/.config/libreoffice/4/user/gallery/~PP2780.WAV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eec94"/>
                </a:solidFill>
                <a:latin typeface="Times New Roman"/>
              </a:rPr>
              <a:t>Текстовая информация и компьютер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Обобщающая игра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9 клас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2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comb dir="horz"/>
    <p:sndAc>
      <p:stSnd>
        <p:snd r:embed="rId4" name="push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22"/>
                </p:tgtEl>
              </p:cMediaNode>
            </p:audio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Задание 4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Задействовав орфографический контроль программы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S Word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, исправьте все ошибки в документе  «</a:t>
            </a:r>
            <a:r>
              <a:rPr b="0" lang="ru-RU" sz="3200" spc="-1" strike="noStrike">
                <a:solidFill>
                  <a:srgbClr val="66ffff"/>
                </a:solidFill>
                <a:latin typeface="Times New Roman"/>
              </a:rPr>
              <a:t>задание 4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»  с </a:t>
            </a:r>
            <a:r>
              <a:rPr b="0" lang="ru-RU" sz="3200" spc="-1" strike="noStrike">
                <a:solidFill>
                  <a:srgbClr val="66ffff"/>
                </a:solidFill>
                <a:latin typeface="Times New Roman"/>
              </a:rPr>
              <a:t>диска 3,5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cc"/>
                </a:solidFill>
                <a:uFillTx/>
                <a:latin typeface="Times New Roman"/>
                <a:hlinkClick r:id="rId1"/>
              </a:rPr>
              <a:t>музык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За данное задание команда может получить до</a:t>
            </a:r>
            <a:r>
              <a:rPr b="0" lang="ru-RU" sz="1600" spc="-1" strike="noStrike">
                <a:solidFill>
                  <a:srgbClr val="66ffff"/>
                </a:solidFill>
                <a:latin typeface="Times New Roman"/>
              </a:rPr>
              <a:t> двух байт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1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0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7" dur="1" fill="hold"/>
                                        <p:tgtEl>
                                          <p:spTgt spid="1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51"/>
                </p:tgtEl>
              </p:cMediaNode>
            </p:audio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MS Word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 помощью текстового редактора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можно не только создавать текстовые документы, но и вставлять  в них иллюстрации из коллекции рисунков. Также есть возможность создавать графические объекты с помощью встроенного графического редактор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4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4" dur="1" fill="hold"/>
                                        <p:tgtEl>
                                          <p:spTgt spid="1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8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8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8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8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54"/>
                </p:tgtEl>
              </p:cMediaNode>
            </p:audio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Задание 5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Создайте  бланк расписания уроков с рисунком и текстом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( по образцу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cc"/>
                </a:solidFill>
                <a:uFillTx/>
                <a:latin typeface="Times New Roman"/>
                <a:hlinkClick r:id="rId1"/>
              </a:rPr>
              <a:t>музык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1908000" y="3048120"/>
            <a:ext cx="5832720" cy="304488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0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5" dur="1" fill="hold"/>
                                        <p:tgtEl>
                                          <p:spTgt spid="1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58"/>
                </p:tgtEl>
              </p:cMediaNode>
            </p:audio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Подведение итогов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За каждое задание вы получили определённое количество бай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900000" y="1844640"/>
            <a:ext cx="6767640" cy="410544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  <p:sndAc>
      <p:stSnd>
        <p:snd r:embed="rId5" name="hammer.wav"/>
      </p:stSnd>
    </p:sndAc>
  </p:transition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0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5" dur="1" fill="hold"/>
                                        <p:tgtEl>
                                          <p:spTgt spid="1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62"/>
                </p:tgtEl>
              </p:cMediaNode>
            </p:audio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В ваших оценках содержится сообщение. Переведите каждый байт в символ и расставьте по порядку в соответствии с нумерацией и вы действительно узнаете что означают ваши байты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5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0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1" dur="1" fill="hold"/>
                                        <p:tgtEl>
                                          <p:spTgt spid="1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65"/>
                </p:tgtEl>
              </p:cMediaNode>
            </p:audio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--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Times New Roman"/>
                <a:hlinkClick r:id="rId1"/>
              </a:rPr>
              <a:t>У вас всё получилось</a:t>
            </a:r>
            <a:r>
              <a:rPr b="0" lang="en-US" sz="3200" spc="-1" strike="noStrike" u="sng">
                <a:solidFill>
                  <a:srgbClr val="ffffcc"/>
                </a:solidFill>
                <a:uFillTx/>
                <a:latin typeface="Times New Roman"/>
                <a:hlinkClick r:id="rId2"/>
              </a:rPr>
              <a:t>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3"/>
          <a:stretch/>
        </p:blipFill>
        <p:spPr>
          <a:xfrm>
            <a:off x="2771640" y="2492280"/>
            <a:ext cx="3384720" cy="288144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>
            <a:hlinkClick r:id="" action="ppaction://media"/>
          </p:cNvPr>
          <p:cNvPicPr/>
          <p:nvPr>
            <a:audioFile r:link="rId4"/>
            <p:extLst>
              <p:ext uri="{DAA4B4D4-6D71-4841-9C94-3DE7FCFB9230}">
                <p14:media r:link="rId5"/>
              </p:ext>
            </p:extLst>
          </p:nvPr>
        </p:nvPicPr>
        <p:blipFill>
          <a:blip r:embed="rId6"/>
          <a:stretch>
            <a:fillRect/>
          </a:stretch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  <p:sndAc>
      <p:stSnd>
        <p:snd r:embed="rId7" name="applause.wav"/>
      </p:stSnd>
    </p:sndAc>
  </p:transition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0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4" dur="1" fill="hold"/>
                                        <p:tgtEl>
                                          <p:spTgt spid="1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69"/>
                </p:tgtEl>
              </p:cMediaNode>
            </p:audio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Правила игры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Игра состоит из пяти заданий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За каждое задание вы можете получить до </a:t>
            </a:r>
            <a:r>
              <a:rPr b="0" lang="en-US" sz="4000" spc="-1" strike="noStrike">
                <a:solidFill>
                  <a:srgbClr val="66ffff"/>
                </a:solidFill>
                <a:latin typeface="Times New Roman"/>
              </a:rPr>
              <a:t>двух байт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Команда набравшая большее число байт  станет победителем данной игр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5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comb dir="horz"/>
    <p:sndAc>
      <p:stSnd>
        <p:snd r:embed="rId4" name="wind.wav"/>
      </p:stSnd>
    </p:sndAc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" dur="1" fill="hold"/>
                                        <p:tgtEl>
                                          <p:spTgt spid="1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25"/>
                </p:tgtEl>
              </p:cMediaNode>
            </p:audio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Терминология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При прохождении этого этапа вы можете получить </a:t>
            </a:r>
            <a:r>
              <a:rPr b="0" lang="en-US" sz="3200" spc="-1" strike="noStrike">
                <a:solidFill>
                  <a:srgbClr val="66ffff"/>
                </a:solidFill>
                <a:latin typeface="Times New Roman"/>
              </a:rPr>
              <a:t>два байт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059280" y="3143160"/>
            <a:ext cx="2665080" cy="194148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comb dir="horz"/>
    <p:sndAc>
      <p:stSnd>
        <p:snd r:embed="rId5" name="chimes.wav"/>
      </p:stSnd>
    </p:sndAc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2" dur="1" fill="hold"/>
                                        <p:tgtEl>
                                          <p:spTgt spid="1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29"/>
                </p:tgtEl>
              </p:cMediaNode>
            </p:audio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Задание 1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Разгадайте кроссворд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Отгадав задания по горизонтали, по вертикали вы получите слово обозначающее  одну из возможностей текстового редактора  по сравнению с печатной машинкой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Times New Roman"/>
                <a:hlinkClick r:id="rId1"/>
              </a:rPr>
              <a:t>музык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2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1" fill="hold"/>
                                        <p:tgtEl>
                                          <p:spTgt spid="1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32"/>
                </p:tgtEl>
              </p:cMediaNode>
            </p:audio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Кодирование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Для предоставления текстовой информации в компьютере используется алфавит мощностью 256 символов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Двоичный код каждого символа в компьютерном тексте занимает </a:t>
            </a:r>
            <a:r>
              <a:rPr b="0" lang="en-US" sz="2800" spc="-1" strike="noStrike">
                <a:solidFill>
                  <a:srgbClr val="66ffff"/>
                </a:solidFill>
                <a:latin typeface="Times New Roman"/>
              </a:rPr>
              <a:t>1 байт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памяти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Таблица, в которой всем символам компьютерного алфавита поставлены в соответствие порядковые номера, называется </a:t>
            </a:r>
            <a:r>
              <a:rPr b="0" lang="en-US" sz="2800" spc="-1" strike="noStrike">
                <a:solidFill>
                  <a:srgbClr val="66ffff"/>
                </a:solidFill>
                <a:latin typeface="Times New Roman"/>
              </a:rPr>
              <a:t>таблицей кодировк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5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" dur="1" fill="hold"/>
                                        <p:tgtEl>
                                          <p:spTgt spid="1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35"/>
                </p:tgtEl>
              </p:cMediaNode>
            </p:audio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Задание 2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огласно  таблице кодировки под названием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SCII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(Американский стандартный код для информационного обмена) </a:t>
            </a:r>
            <a:r>
              <a:rPr b="0" lang="ru-RU" sz="3200" spc="-1" strike="noStrike">
                <a:solidFill>
                  <a:srgbClr val="66ffff"/>
                </a:solidFill>
                <a:latin typeface="Times New Roman"/>
              </a:rPr>
              <a:t>закодируйте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данное вам сообщение и </a:t>
            </a:r>
            <a:r>
              <a:rPr b="0" lang="ru-RU" sz="3200" spc="-1" strike="noStrike">
                <a:solidFill>
                  <a:srgbClr val="66ffff"/>
                </a:solidFill>
                <a:latin typeface="Times New Roman"/>
              </a:rPr>
              <a:t>передайте для раскодирования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другой команде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cc"/>
                </a:solidFill>
                <a:uFillTx/>
                <a:latin typeface="Times New Roman"/>
                <a:hlinkClick r:id="rId1"/>
              </a:rPr>
              <a:t>музык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8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0" dur="1" fill="hold"/>
                                        <p:tgtEl>
                                          <p:spTgt spid="1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38"/>
                </p:tgtEl>
              </p:cMediaNode>
            </p:audio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Текстовые редакторы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ffff"/>
                </a:solidFill>
                <a:latin typeface="Times New Roman"/>
              </a:rPr>
              <a:t>Текстовый редактор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– это прикладная программа, позволяющая создавать  текстовые документы на магнитном диске, редактировать их, просматривать содержимое документа на экране, распечатывать документ, изменять формат документ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9" dur="1" fill="hold"/>
                                        <p:tgtEl>
                                          <p:spTgt spid="1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41"/>
                </p:tgtEl>
              </p:cMediaNode>
            </p:audio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Задание 3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аждая команда должна исполнить  свою  хвалебную песнь, посвящённую текстовому редактору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OR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cc"/>
                </a:solidFill>
                <a:uFillTx/>
                <a:latin typeface="Times New Roman"/>
                <a:hlinkClick r:id="rId1"/>
              </a:rPr>
              <a:t>музык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За данное задание команда  может получить до </a:t>
            </a:r>
            <a:r>
              <a:rPr b="0" lang="ru-RU" sz="1800" spc="-1" strike="noStrike">
                <a:solidFill>
                  <a:srgbClr val="66ffff"/>
                </a:solidFill>
                <a:latin typeface="Times New Roman"/>
              </a:rPr>
              <a:t>двух бай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4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9" dur="1" fill="hold"/>
                                        <p:tgtEl>
                                          <p:spTgt spid="1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768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3" dur="768" fill="hold"/>
                                        <p:tgtEl>
                                          <p:spTgt spid="14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5" dur="768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6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67" dur="768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6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44"/>
                </p:tgtEl>
              </p:cMediaNode>
            </p:audio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Орфография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635280" y="1599840"/>
            <a:ext cx="5051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Редкий человек не делает при письме ошибок. Во многих текстовых редакторах  реализован режим орфографического контроля, во внешней памяти хранится достаточно большой словарь. Благодаря этому становится возможным автоматический поиск ошибок в текст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684360" y="1484280"/>
            <a:ext cx="2950920" cy="424836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5" dur="1" fill="hold"/>
                                        <p:tgtEl>
                                          <p:spTgt spid="1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768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9" dur="768" fill="hold"/>
                                        <p:tgtEl>
                                          <p:spTgt spid="14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01" dur="768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0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03" dur="768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0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48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1T23:38:16Z</dcterms:created>
  <dc:creator>Салиев Марат Сягитович</dc:creator>
  <dc:description/>
  <dc:language>en-US</dc:language>
  <cp:lastModifiedBy>Салиев Марат Сягитович</cp:lastModifiedBy>
  <dcterms:modified xsi:type="dcterms:W3CDTF">2007-01-29T00:13:56Z</dcterms:modified>
  <cp:revision>5</cp:revision>
  <dc:subject/>
  <dc:title>Текстовая информация и компьютер</dc:title>
</cp:coreProperties>
</file>